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1C7B-CE85-43C9-A47D-35062F86B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9792-008B-4F84-B5CA-E794A7D2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8BA2-FCF4-4ABE-90FC-151F5A97C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9158-8D97-4358-AB4C-74AC6F78A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F7E0-220E-41CB-82C8-416CCF377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82CC-416F-462D-B040-1A8266B3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A818-162F-48C0-B593-A79AAAD8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FBD9-CB04-4F6D-A6DC-34D830D7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F3D5-ACE1-46DF-8F5A-70A52162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E519-1BB1-4F3D-B099-3DB970AC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05C4-05CD-453B-8C63-3C3990DB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1F1E-1AD3-4E2F-806B-7AD16B87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CC7E-8565-4984-AD02-D2ADE824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A430-D869-4CA1-B788-AE61CB24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64AD-0A99-4CE9-8B7D-7B5B8679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0BDE-990D-4F84-8996-0DBD7C370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E9D3-CD83-4AE5-AD3F-509A183B6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8FCD-356B-4935-A2DB-13ECEBB7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D671-AB58-48C8-8D62-7A2243B7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08B1-799C-4595-825A-66D30023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B048-0C17-4257-9DDE-305E8CD3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50B8-5B2B-4052-8F30-976052E8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D9D5-05C7-41A7-9845-77958CDE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598D-DB26-4470-8111-28927EDE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601C-F3E5-42F6-978B-653939AE07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0857-313A-46B3-91A3-D3E2F160BB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ng DNA Using Restriction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5 new microcentrifuge tubes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ct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ct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ct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ct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me Scene (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se are the reaction tub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010120" y="198108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20-200 uL micropipetter to transfer 26 uL sterile water into each reaction tu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tip may be used throughout this ste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10120" y="198108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0.5-10 uL micropipetter to transf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uL buffer into each reaction tu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tip may be used throughout this ste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same technique to transfer 4 uL BSA into each reaction tu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tip may be used throughout this ste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0.5 uL micropipetter to transfer 1 uL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ck D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o its corresponding reaction tu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ips should be switched out between each tube to prevent cross contamination of DNA samp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0.5 uL micropipetter to transfer 5 uL restriction enzyme into each reaction 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sure to change tips between each tu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 the reaction cocktail b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t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apping the sides of the tub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no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fu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ubate the tubes at room temperature over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incubation the samples are ready to be analyzed by gel electrophor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s can be stored frozen if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earn the principles of DNA fingerprin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understand endonuclease activity for genetic engineering and biotechnolo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 endonucleases  (restriction enzymes) are capable of cutting both strands of DNA at one specific site in the nucleotide sequence (recognition si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334120" y="2133720"/>
          <a:ext cx="3809880" cy="277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133720"/>
                    <a:ext cx="3809880" cy="27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he DNA is cut depends on its base sequ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related strands of DNA will be consequently cleaved into various smaller size pie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DNA strand may have 5 pieces while another may have 12 pie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DNA fragments can then be analyzed by gel electrophoresis for pattern comparison known as DNA fingerprin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800600" y="22096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x Glo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ty G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ion Enzy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centrifuge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centrifuge R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5-10 uL Micropip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-200 uL Micropip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pipette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anent Ma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riction Enzyme A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ves and safety glasses should be donned throughout this assa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helps to prevent contamination of the D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a microcentrifuge rack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DNA s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Sterile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Restriction Enzy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 B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0" y="25336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1T23:00:55Z</dcterms:created>
  <dc:creator>Brooke Landon</dc:creator>
  <dc:description/>
  <dc:language>en-US</dc:language>
  <cp:lastModifiedBy>Brooke Landon</cp:lastModifiedBy>
  <dcterms:modified xsi:type="dcterms:W3CDTF">2006-10-02T13:51:11Z</dcterms:modified>
  <cp:revision>4</cp:revision>
  <dc:subject/>
  <dc:title>Digesting DNA Using Restriction Enzymes</dc:title>
</cp:coreProperties>
</file>